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55C6-EDCD-4D6B-ACF0-3501B9292B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A3D3-0EE7-49F9-9B8F-587481583C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12BC-8E2B-487C-B2AC-E5A1B38686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194C-DFC6-4FB7-8C3D-120480D566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AB2E-F9AF-410E-9CEB-76C28BC30B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DCB0E-46B3-4C46-9B84-8B6F0206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EF9D4-123A-4D8E-ABF1-27CE1BED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CD78E-1D34-43B5-AE76-84D6CD75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8E034-C653-445D-965E-90045A63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D5E2-3151-4C43-8728-D9E85619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0AF8-DAC8-4331-A8A6-181FCFC9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6E76-491D-474C-9C0F-D277DF84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93D6-FFE2-4E5E-8B14-B5DACE74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FA1C-5D42-4994-8EB8-C06CD702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861F-857E-41A8-9BB7-F10B0399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3846-007A-44F3-AE56-3BC8F3F1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756D9-0F0E-4200-AF34-D7BF51B0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A7BB-A852-4F55-9913-1D92DC9E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5D91-3BC0-4607-825B-12E16ED0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7678-6391-4CD6-A0E8-A2A68233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EE02-EF45-48A3-AE2C-4CE5BCED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9C97-B485-409F-B64F-CDAD2DAE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71EB0-BD99-4DE2-98B4-D5BFE684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DF3DF-C0D9-4E6F-B967-6916D3AF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B5498-51F0-4EE5-8810-46B089B4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91145-EB09-4DAE-A8BC-B4D2F514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65616-180C-4C19-99F6-63A0D4DB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5B5F3-2298-41A5-B4C1-A0035005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884A-E0CA-4496-9FA3-C9A93036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9DD5-3F3C-438C-A060-A5D8A8091C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9A2C-4C34-4F28-8A11-93C4343485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9.jpe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biodiversity.ru/programs/vyhuh/gallery/video.html" TargetMode="External"/><Relationship Id="rId2" Type="http://schemas.openxmlformats.org/officeDocument/2006/relationships/hyperlink" Target="http://www.biodiversity.ru/programs/vyhuh/gallery/video.html" TargetMode="External"/><Relationship Id="rId3" Type="http://schemas.openxmlformats.org/officeDocument/2006/relationships/hyperlink" Target="http://www.biodiversity.ru/programs/vyhuh/gallery/video.html" TargetMode="External"/><Relationship Id="rId4" Type="http://schemas.openxmlformats.org/officeDocument/2006/relationships/hyperlink" Target="http://www.biodiversity.ru/programs/vyhuh/gallery/video.html" TargetMode="External"/><Relationship Id="rId5" Type="http://schemas.openxmlformats.org/officeDocument/2006/relationships/hyperlink" Target="http://www.biodiversity.ru/programs/vyhuh/gallery/video.html" TargetMode="External"/><Relationship Id="rId6" Type="http://schemas.openxmlformats.org/officeDocument/2006/relationships/hyperlink" Target="http://www.biodiversity.ru/programs/vyhuh/gallery/video.html" TargetMode="External"/><Relationship Id="rId7" Type="http://schemas.openxmlformats.org/officeDocument/2006/relationships/hyperlink" Target="http://www.biodiversity.ru/programs/vyhuh/gallery/video.html" TargetMode="External"/><Relationship Id="rId8" Type="http://schemas.openxmlformats.org/officeDocument/2006/relationships/hyperlink" Target="http://www.biodiversity.ru/programs/vyhuh/gallery/video.html" TargetMode="External"/><Relationship Id="rId9" Type="http://schemas.openxmlformats.org/officeDocument/2006/relationships/hyperlink" Target="http://www.biodiversity.ru/programs/vyhuh/gallery/video.html" TargetMode="External"/><Relationship Id="rId10" Type="http://schemas.openxmlformats.org/officeDocument/2006/relationships/hyperlink" Target="http://www.biodiversity.ru/programs/vyhuh/gallery/video.html" TargetMode="External"/><Relationship Id="rId11" Type="http://schemas.openxmlformats.org/officeDocument/2006/relationships/hyperlink" Target="http://www.biodiversity.ru/programs/vyhuh/gallery/video.html" TargetMode="External"/><Relationship Id="rId12" Type="http://schemas.openxmlformats.org/officeDocument/2006/relationships/hyperlink" Target="http://www.biodiversity.ru/programs/vyhuh/gallery/video.html" TargetMode="External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19280" y="4723920"/>
            <a:ext cx="57243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тель биолог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Лицей г. Уваров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бовской област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б. тел. +7 475 582 11 6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e-mail: luvr-zam1@mail.ru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катова Тамара Валентиновн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843280" y="1699920"/>
            <a:ext cx="630072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7b7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а:«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Я есть жизн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желающая жить среди жизни,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желающей жи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8" descr="buzzy_mad_md_wht"/>
          <p:cNvPicPr/>
          <p:nvPr/>
        </p:nvPicPr>
        <p:blipFill>
          <a:blip r:embed="rId1"/>
          <a:stretch/>
        </p:blipFill>
        <p:spPr>
          <a:xfrm rot="384600">
            <a:off x="3094200" y="4394160"/>
            <a:ext cx="2036520" cy="18003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3" descr="ГербУварво2.gif"/>
          <p:cNvPicPr/>
          <p:nvPr/>
        </p:nvPicPr>
        <p:blipFill>
          <a:blip r:embed="rId2"/>
          <a:stretch/>
        </p:blipFill>
        <p:spPr>
          <a:xfrm>
            <a:off x="755640" y="3860640"/>
            <a:ext cx="1905120" cy="24098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5" descr="ЛицейЛого.jpg"/>
          <p:cNvPicPr/>
          <p:nvPr/>
        </p:nvPicPr>
        <p:blipFill>
          <a:blip r:embed="rId3"/>
          <a:stretch/>
        </p:blipFill>
        <p:spPr>
          <a:xfrm>
            <a:off x="468360" y="907920"/>
            <a:ext cx="179064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ормирование экологической компетентности лицеистов, привлечение их к исследовательской деятельности как способу познания окружающей действи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ение и обоснование наиболее эффективных форм и методов формирования экологического сознания как основы нравственного воспитания учащихся на примере создания и реализации детского экологического проекта по сохранению редких видов своей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056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 u="sng">
                <a:solidFill>
                  <a:srgbClr val="00007d"/>
                </a:solidFill>
                <a:uFillTx/>
                <a:latin typeface="Arial"/>
              </a:rPr>
              <a:t>Задача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учить уровень экологической культуры лицеистов и разработать для них соответствующую образовательную программу и методические рекомендации формирования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компетен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ций в области экологиче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ской куль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buzzy_mad_md_wht"/>
          <p:cNvPicPr/>
          <p:nvPr/>
        </p:nvPicPr>
        <p:blipFill>
          <a:blip r:embed="rId1"/>
          <a:stretch/>
        </p:blipFill>
        <p:spPr>
          <a:xfrm rot="1500000">
            <a:off x="4039920" y="4879440"/>
            <a:ext cx="1022400" cy="1092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Ровесник мамонта оказался в плачевном состоянии (фото: parkugra.forest.ru)"/>
          <p:cNvPicPr/>
          <p:nvPr/>
        </p:nvPicPr>
        <p:blipFill>
          <a:blip r:embed="rId2"/>
          <a:stretch/>
        </p:blipFill>
        <p:spPr>
          <a:xfrm>
            <a:off x="5857920" y="3857760"/>
            <a:ext cx="3286080" cy="30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4800" spc="-1" strike="noStrike" u="sng">
                <a:solidFill>
                  <a:srgbClr val="00007d"/>
                </a:solidFill>
                <a:uFillTx/>
                <a:latin typeface="Arial"/>
              </a:rPr>
              <a:t>Задача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ктуализировать у лицеистов </a:t>
            </a: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компетентности в саморазвитии, самопознании, самосовершен-ствовани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 побудить их к пониманию ценности любой жизни на примере трагедии русской выхухо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5400" spc="-1" strike="noStrike" u="sng">
                <a:solidFill>
                  <a:srgbClr val="00007d"/>
                </a:solidFill>
                <a:uFillTx/>
                <a:latin typeface="Arial"/>
              </a:rPr>
              <a:t>Задача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96472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ствовать формированию </a:t>
            </a: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познавательной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компетен-тност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используя алгоритмы выполнения исследования, написания и представления исследовательской рабо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buzzy_mad_md_wht"/>
          <p:cNvPicPr/>
          <p:nvPr/>
        </p:nvPicPr>
        <p:blipFill>
          <a:blip r:embed="rId1"/>
          <a:stretch/>
        </p:blipFill>
        <p:spPr>
          <a:xfrm rot="1500000">
            <a:off x="6611760" y="808200"/>
            <a:ext cx="1022400" cy="10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5400" spc="-1" strike="noStrike" u="sng">
                <a:solidFill>
                  <a:srgbClr val="00007d"/>
                </a:solidFill>
                <a:uFillTx/>
                <a:latin typeface="Arial"/>
              </a:rPr>
              <a:t>Задача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особствовать формированию </a:t>
            </a: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гражданско-правовой компе-тентност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(воспитанию интел-лектуальной, творческой, практически ориентированной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ответственной личности лицеистов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5723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7d"/>
                </a:solidFill>
                <a:uFillTx/>
                <a:latin typeface="Arial"/>
              </a:rPr>
              <a:t>Реализация проек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ля того чтобы, сформировать намеченные компетентности необходимо правильно выбрать методы и формы урочной и внеурочной деятельности, а далее эффективно их реализов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229600" cy="10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Arial"/>
              </a:rPr>
              <a:t>Реализация проек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работе прослеживаются три направ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подбор 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форм и методов урочной деятельности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подбор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форм и методов внеуроч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3. </a:t>
            </a:r>
            <a:r>
              <a:rPr b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проверка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 их эффективности через реализацию детского экологического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Формы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и методы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Работа с дополнительной литерату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Исследователь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Создание схем, фотоальбомов, стен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Творческие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Просветительская и организацион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Экологическая кон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Экологический патру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7d"/>
                </a:solidFill>
                <a:uFillTx/>
                <a:latin typeface="Arial"/>
              </a:rPr>
              <a:t>Содержание учебного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4200" y="1499760"/>
            <a:ext cx="8786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цель проекта – создать условия для раз-вития умения школьников учиться на собственном опыте и опыте других обучающихся в процессе разработки и за-щите проекта. Данный проект – полипредметный и затра-гивает предмет биологию и экологию. Он рассчитан на 2 часа учебного времени и двух недельную внеурочную работу по поиску, сбору, анализу, обработке информа-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й проект относится к поисково – аналитически - информационным, практико-ориентированным, продук-тивным. Он предусматривает сбор и анализ информа-ции, проведение опросов, подготовку и защиту выступле-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Этапы учебного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м поэтапную деятельность учителя по организации работы обучающихся над проек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buzzy_mad_md_wht"/>
          <p:cNvPicPr/>
          <p:nvPr/>
        </p:nvPicPr>
        <p:blipFill>
          <a:blip r:embed="rId1"/>
          <a:stretch/>
        </p:blipFill>
        <p:spPr>
          <a:xfrm rot="1500000">
            <a:off x="1468080" y="4522320"/>
            <a:ext cx="1022400" cy="1092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buzzy_mad_md_wht"/>
          <p:cNvPicPr/>
          <p:nvPr/>
        </p:nvPicPr>
        <p:blipFill>
          <a:blip r:embed="rId2"/>
          <a:stretch/>
        </p:blipFill>
        <p:spPr>
          <a:xfrm rot="1500000">
            <a:off x="3754080" y="4736880"/>
            <a:ext cx="1022400" cy="1092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buzzy_mad_md_wht"/>
          <p:cNvPicPr/>
          <p:nvPr/>
        </p:nvPicPr>
        <p:blipFill>
          <a:blip r:embed="rId3"/>
          <a:stretch/>
        </p:blipFill>
        <p:spPr>
          <a:xfrm rot="1500000">
            <a:off x="6899400" y="3946320"/>
            <a:ext cx="998280" cy="1091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Ровесник мамонта оказался в плачевном состоянии (фото: parkugra.forest.ru)"/>
          <p:cNvPicPr/>
          <p:nvPr/>
        </p:nvPicPr>
        <p:blipFill>
          <a:blip r:embed="rId4"/>
          <a:stretch/>
        </p:blipFill>
        <p:spPr>
          <a:xfrm>
            <a:off x="5286240" y="3500280"/>
            <a:ext cx="3857760" cy="3357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buzzy_mad_md_wht"/>
          <p:cNvPicPr/>
          <p:nvPr/>
        </p:nvPicPr>
        <p:blipFill>
          <a:blip r:embed="rId5"/>
          <a:stretch/>
        </p:blipFill>
        <p:spPr>
          <a:xfrm rot="1500000">
            <a:off x="2611080" y="3951000"/>
            <a:ext cx="102240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6" descr="ЗданиеСверху.jpg"/>
          <p:cNvPicPr/>
          <p:nvPr/>
        </p:nvPicPr>
        <p:blipFill>
          <a:blip r:embed="rId1"/>
          <a:stretch/>
        </p:blipFill>
        <p:spPr>
          <a:xfrm>
            <a:off x="208080" y="738360"/>
            <a:ext cx="8637480" cy="56196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5" descr="ЛицейЛого.jpg"/>
          <p:cNvPicPr/>
          <p:nvPr/>
        </p:nvPicPr>
        <p:blipFill>
          <a:blip r:embed="rId2"/>
          <a:stretch/>
        </p:blipFill>
        <p:spPr>
          <a:xfrm>
            <a:off x="244440" y="615960"/>
            <a:ext cx="20178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7d"/>
                </a:solidFill>
                <a:uFillTx/>
                <a:latin typeface="Arial"/>
              </a:rPr>
              <a:t>1 этап.</a:t>
            </a:r>
            <a:r>
              <a:rPr b="1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	</a:t>
            </a:r>
            <a:r>
              <a:rPr b="1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 Организационный</a:t>
            </a:r>
            <a:r>
              <a:rPr b="1" i="1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28592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9-11 классах проведён урок на тему: «Антропогенные факторы и их воздействие на окружающую среду». Учащиеся получили исследовательские и творческие 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ные за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публикаций в СМИ на экологические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фотоматери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вьюирование  жителей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сание рецензий на материалы экологической 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 последующая работа проводится как внекласс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231840" y="3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2 этап</a:t>
            </a: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Создание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координационного</a:t>
            </a: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совета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35728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и приглашены все желающие. Выбрали руководителя проекта из числа учащихся и создали координационный совет, определили его задачи и наметили план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ормировали рабочие группы и назначили их руководи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Рабочие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ru-RU" sz="2800" spc="-1" strike="noStrike" u="sng">
                <a:solidFill>
                  <a:srgbClr val="00007d"/>
                </a:solidFill>
                <a:uFillTx/>
                <a:latin typeface="Arial"/>
              </a:rPr>
              <a:t>. Поисково-исследовательская груп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бор экологической информации, проведение эколо-гических рейдов, проведение исследовательских ра-бот по определению влияния различных факторов среды на численность русской выхухол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2. </a:t>
            </a:r>
            <a:r>
              <a:rPr b="1" lang="ru-RU" sz="2800" spc="-1" strike="noStrike" u="sng">
                <a:solidFill>
                  <a:srgbClr val="00007d"/>
                </a:solidFill>
                <a:uFillTx/>
                <a:latin typeface="Arial"/>
              </a:rPr>
              <a:t>Информационно-аналитическая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нализ практических материалов, их статистическая обработка и ознакомление с ними широкого круга насел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ru-RU" sz="2800" spc="-1" strike="noStrike" u="sng">
                <a:solidFill>
                  <a:srgbClr val="00007d"/>
                </a:solidFill>
                <a:uFillTx/>
                <a:latin typeface="Arial"/>
              </a:rPr>
              <a:t>. Творческая группа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оздание фильмов, плакатов, стендов, экологичес-ких сказок и т.д. в защиту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ЖИЗНИ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7d"/>
                </a:solidFill>
                <a:uFillTx/>
                <a:latin typeface="Arial"/>
              </a:rPr>
              <a:t>3 этап</a:t>
            </a:r>
            <a:r>
              <a:rPr b="1" i="1" lang="ru-RU" sz="4000" spc="-1" strike="noStrike" u="sng">
                <a:solidFill>
                  <a:srgbClr val="00007d"/>
                </a:solidFill>
                <a:uFillTx/>
                <a:latin typeface="Arial"/>
              </a:rPr>
              <a:t>.</a:t>
            </a:r>
            <a:r>
              <a:rPr b="1" i="1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	</a:t>
            </a:r>
            <a:r>
              <a:rPr b="1" lang="ru-RU" sz="4800" spc="-1" strike="noStrike" u="sng">
                <a:solidFill>
                  <a:srgbClr val="00007d"/>
                </a:solidFill>
                <a:uFillTx/>
                <a:latin typeface="Arial"/>
              </a:rPr>
              <a:t> Практиче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57176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Выполнение индивидуальных, группов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ьских, аналитических зад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формление иллюстративных  материа-лов на стендах и в фотоальбо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ыполнение творческих зад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Экологический патру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7d"/>
                </a:solidFill>
                <a:uFillTx/>
                <a:latin typeface="Arial"/>
              </a:rPr>
              <a:t>4 этап</a:t>
            </a: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400" spc="-1" strike="noStrike" u="sng">
                <a:solidFill>
                  <a:srgbClr val="00007d"/>
                </a:solidFill>
                <a:uFillTx/>
                <a:latin typeface="Arial"/>
              </a:rPr>
              <a:t>Рефлекси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28480"/>
            <a:ext cx="822960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Экологическая конференц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одведение итогов работы (презентация слайд- фильмов о проблемах русской выхухол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оздание экологического патру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Обращение к жителям гор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едложения по дальнейшей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Немаловажно, что проект получил одобрение и поддержку администрации города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2560" y="642600"/>
            <a:ext cx="8209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Экологическая конфере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85920"/>
            <a:ext cx="914400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ный вид деятельности позволяет каждому ученику предста-вить свою работу, высказать своё мнение, возразить другому, обозначить и аргументировать свою позицию и сравнить её с другими, найти точки соприкосновения или точки антагонисты, высказанных пози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859280" y="3068640"/>
            <a:ext cx="4284720" cy="3789360"/>
          </a:xfrm>
          <a:prstGeom prst="rect">
            <a:avLst/>
          </a:prstGeom>
          <a:ln w="76320">
            <a:solidFill>
              <a:srgbClr val="0e0b51"/>
            </a:solidFill>
            <a:miter/>
          </a:ln>
        </p:spPr>
      </p:pic>
      <p:pic>
        <p:nvPicPr>
          <p:cNvPr id="180" name="Picture 10" descr=""/>
          <p:cNvPicPr/>
          <p:nvPr/>
        </p:nvPicPr>
        <p:blipFill>
          <a:blip r:embed="rId2">
            <a:lum contrast="8000"/>
          </a:blip>
          <a:stretch/>
        </p:blipFill>
        <p:spPr>
          <a:xfrm>
            <a:off x="0" y="3019320"/>
            <a:ext cx="5364000" cy="3838680"/>
          </a:xfrm>
          <a:prstGeom prst="rect">
            <a:avLst/>
          </a:prstGeom>
          <a:ln w="76320">
            <a:solidFill>
              <a:srgbClr val="0e0b51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 u="sng">
                <a:solidFill>
                  <a:srgbClr val="00007d"/>
                </a:solidFill>
                <a:uFillTx/>
                <a:latin typeface="Arial"/>
              </a:rPr>
              <a:t>Просветительская и </a:t>
            </a:r>
            <a:r>
              <a:rPr b="1" lang="ru-RU" sz="4000" spc="-1" strike="noStrike" u="sng">
                <a:solidFill>
                  <a:srgbClr val="00007d"/>
                </a:solidFill>
                <a:uFillTx/>
                <a:latin typeface="Arial"/>
              </a:rPr>
              <a:t>	</a:t>
            </a:r>
            <a:r>
              <a:rPr b="1" lang="ru-RU" sz="4000" spc="-1" strike="noStrike" u="sng">
                <a:solidFill>
                  <a:srgbClr val="00007d"/>
                </a:solidFill>
                <a:uFillTx/>
                <a:latin typeface="Arial"/>
              </a:rPr>
              <a:t>организационная раб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стями конференции были мэр города Кузнецов А.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619280" y="2428920"/>
            <a:ext cx="5878440" cy="408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291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 u="sng">
                <a:solidFill>
                  <a:srgbClr val="00007d"/>
                </a:solidFill>
                <a:uFillTx/>
                <a:latin typeface="Arial"/>
              </a:rPr>
              <a:t>Экологический патру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нная форма работы предусматривает озеленение города, очистку территорий от бытового мусора, помощь лесхозу в посадке и прополке саженцев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539640" y="3205080"/>
            <a:ext cx="4176720" cy="3148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DSCN3284"/>
          <p:cNvPicPr/>
          <p:nvPr/>
        </p:nvPicPr>
        <p:blipFill>
          <a:blip r:embed="rId2"/>
          <a:stretch/>
        </p:blipFill>
        <p:spPr>
          <a:xfrm>
            <a:off x="4143240" y="3041640"/>
            <a:ext cx="4316400" cy="35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7d"/>
                </a:solidFill>
                <a:uFillTx/>
                <a:latin typeface="Arial"/>
              </a:rPr>
              <a:t>Подведение итогов работы </a:t>
            </a:r>
            <a:br>
              <a:rPr sz="2800"/>
            </a:b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презентации слайд - фильмов о проблемах 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русской выхухол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е фильмы можно использовать в качестве учебных фильмов на уроках  экологии при изучении регионального компонента образования в 7 классов, а также во внеурочной деятельности и на уроках биоло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7d"/>
                </a:solidFill>
                <a:uFillTx/>
                <a:latin typeface="Arial"/>
              </a:rPr>
              <a:t>Презентации слайд - фильмов о 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00007d"/>
                </a:solidFill>
                <a:uFillTx/>
                <a:latin typeface="Arial"/>
              </a:rPr>
              <a:t>проблемах русской выхухоли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резентации слайд - фильмов о проблемах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русской выхухол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ь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. Среда обитания и образ жизни выхух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ьм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Факторы угрозы исчезновения выхух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ьм 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Воронежский заповед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ьм 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Русская выхухоль. Биологический ви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ьм 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хранение биоразнообразия на примере выхух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820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4000" spc="-1" strike="noStrike" u="sng">
                <a:solidFill>
                  <a:srgbClr val="00007d"/>
                </a:solidFill>
                <a:uFillTx/>
                <a:latin typeface="Arial"/>
              </a:rPr>
              <a:t>Я есть жизнь, желающая жить среди жизни, желающей жить</a:t>
            </a: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 Швейц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0" y="2492280"/>
            <a:ext cx="91440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лавная идея проекта –побудить учащихся задуматься о своём месте в современном мире, сформировать активную жизненную позицию, решить для себя главную нравственную проблему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7" descr="buzzy_mad_md_wht"/>
          <p:cNvPicPr/>
          <p:nvPr/>
        </p:nvPicPr>
        <p:blipFill>
          <a:blip r:embed="rId1"/>
          <a:stretch/>
        </p:blipFill>
        <p:spPr>
          <a:xfrm rot="1500000">
            <a:off x="7235640" y="4652640"/>
            <a:ext cx="1022040" cy="109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ФОРМАЦИОННЫЙ РЕСУР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4320" y="2190600"/>
            <a:ext cx="793404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Полат Е.С. Новые педагогические и информационные технологии в системе образования.-М.:Академия, 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Пономарёва И.Н. Общая экология: Учебное пособие.-СПб.: Образование,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Школьный экологический мониторинг: Учебно-методическое пособие Под ред. Т.Я. Ашихминой.-М.:АГАР,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Биология в школе. Научно-теоретический и методический журнал.Подборка 1990-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Биология. Под ред.академикаРАМН профессораВ.Н.Ярыгина В двух книг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А.Н. Сизанов, В.А. Хриптович Модульный курс профилактики курения. Москва ВАКО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Тестирование детей Ростов- на –Дону Феникс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. Экологический мониторинг. Н.А. Пугал, А.Д. Зверев Биолог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. Приложение к газете Первое сентября 1996-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. Н.М. Мамедов Экология Москва Школа-Пресс 1996-07-3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1. Г.К.Зайцев Школьная валеология Санкт-Петербург Детство-Пресс 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лезные ссыл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075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ttp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www.biodiversity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rograms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vyhuh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gallery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video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Фильм «Русская выхухоль», телестудии «Брянский лес» (11 мин., рус. и англ. язы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Фильм «Знакомьтесь: русская выхухоль», видеостудия заповедника «Керженский» (13 мин., рус. язы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Видеоролик социальной рекламы, посвященный борьбе с использованием для лова рыбы лесочных сетей и защите русской выхухоли (35 секунд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diversit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yhu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5-06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т информационных материалов к уроку о русской выхухоли, разработанный Центром охраны дикой природы. В комплект входят научно-популярные фильмы и статьи о русской выхухоли, научная монография, карты ареала, рекомендации по сохранению вида, тест на проверку полученных знаний, фотографии  и ряд других материалов. Также здесь размещен набор планов к уроку о русской выхухоли, разработанный профессиональными педагогами для школьников разных возрастов, а также приложенные к планам учебные игры и красочные презентации, которыми можно дополнить ваш ур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diversit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yhu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yhu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fl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онная листовка, кратко освещающая проблему катастрофического уменьшения численности русской выхух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66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Arial"/>
              </a:rPr>
              <a:t>Главная нравственная   пробл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9680" y="1557360"/>
            <a:ext cx="86439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то 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3505"/>
                </a:solidFill>
                <a:latin typeface="Arial"/>
              </a:rPr>
              <a:t>Жизн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желающая жить сред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e53505"/>
                </a:solidFill>
                <a:latin typeface="Arial"/>
              </a:rPr>
              <a:t>жизн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желающей жить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3505"/>
                </a:solidFill>
                <a:latin typeface="Arial"/>
              </a:rPr>
              <a:t>Жизнь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несущая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мерть</a:t>
            </a: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 жизни, </a:t>
            </a: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желающей жи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ого не да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8" descr="P9190157"/>
          <p:cNvPicPr/>
          <p:nvPr/>
        </p:nvPicPr>
        <p:blipFill>
          <a:blip r:embed="rId1"/>
          <a:stretch/>
        </p:blipFill>
        <p:spPr>
          <a:xfrm>
            <a:off x="395280" y="692280"/>
            <a:ext cx="8064360" cy="5724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684360" y="76500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7d"/>
                </a:solidFill>
                <a:uFillTx/>
                <a:latin typeface="Arial"/>
              </a:rPr>
              <a:t>Я есть жизнь…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4800" spc="-1" strike="noStrike" u="sng">
                <a:solidFill>
                  <a:srgbClr val="00007d"/>
                </a:solidFill>
                <a:uFillTx/>
                <a:latin typeface="Arial"/>
              </a:rPr>
              <a:t>Экологическое созн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основ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равственной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блем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заимоотношений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ловека и среды его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итани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жит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логическое сознани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buzzy_mad_md_wht"/>
          <p:cNvPicPr/>
          <p:nvPr/>
        </p:nvPicPr>
        <p:blipFill>
          <a:blip r:embed="rId1"/>
          <a:stretch/>
        </p:blipFill>
        <p:spPr>
          <a:xfrm rot="1500000">
            <a:off x="182160" y="2808000"/>
            <a:ext cx="1022400" cy="109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4800" spc="-1" strike="noStrike" u="sng">
                <a:solidFill>
                  <a:srgbClr val="00007d"/>
                </a:solidFill>
                <a:uFillTx/>
                <a:latin typeface="Arial"/>
              </a:rPr>
              <a:t>Экологическое созн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3581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словам Н.И.Конрада,  мы обретём его, если ответим себ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вопрос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-Кто я, человек, овладевающий силами прир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-Каковы мои права и обязанности по отношению и к природе, и к самому себ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-И есть ли предел этих пра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-А если есть, то каков о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DSCN3284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8708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611280" y="83664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Экологическое сознани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Arial"/>
              </a:rPr>
              <a:t>Уникальность данного проект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его создании и реализации используется не только 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теоретически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но и </a:t>
            </a:r>
            <a:r>
              <a:rPr b="1" lang="en-US" sz="3200" spc="-1" strike="noStrike">
                <a:solidFill>
                  <a:srgbClr val="e53505"/>
                </a:solidFill>
                <a:latin typeface="Arial"/>
              </a:rPr>
              <a:t>большо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53505"/>
                </a:solidFill>
                <a:latin typeface="Arial"/>
              </a:rPr>
              <a:t>практический материа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собранный лицеистами: фотографии, интервью с жителями и охотниками, встречи с охотоведами, экологами города и района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0_bd67_95ae3398_L"/>
          <p:cNvPicPr/>
          <p:nvPr/>
        </p:nvPicPr>
        <p:blipFill>
          <a:blip r:embed="rId1"/>
          <a:stretch/>
        </p:blipFill>
        <p:spPr>
          <a:xfrm>
            <a:off x="5030640" y="4643280"/>
            <a:ext cx="4113360" cy="221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3:18:38Z</dcterms:created>
  <dc:creator>АняЛенаНастя</dc:creator>
  <dc:description/>
  <dc:language>en-US</dc:language>
  <cp:lastModifiedBy>Natasha Novoselova</cp:lastModifiedBy>
  <dcterms:modified xsi:type="dcterms:W3CDTF">2009-10-29T13:15:34Z</dcterms:modified>
  <cp:revision>201</cp:revision>
  <dc:subject/>
  <dc:title>Человек – нечаянная, мучительная и прекрасная попытка природы осознать самое себя.   Экологический проект.</dc:title>
</cp:coreProperties>
</file>